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C18D-AF0F-4E80-89FF-A21FE706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A68F-A424-4C32-A7D0-3F6FF922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31EC-5EC4-4084-9640-F26B4EC4F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5F2B-0E18-4A31-90BE-876DC5B48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924A-3BA1-4CF9-A0FB-CA486642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AA0C-0DA3-4AFF-8CF4-405EA9A4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FAD8-D83B-480B-8049-AFD8160F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1AB8-6B1C-4761-BE75-56321CF1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19DA-6F9E-4265-9A1D-04C8D15F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3AAF-9292-41AE-9E1B-26490A2B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98E4-AE7F-4AC8-AEAF-A6561404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C71C-A205-42B9-A57C-40988E3C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6E9A-DEAC-4609-B6CE-7D5B4FCCED8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ADICAIS OU RAMIFICA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4"/>
          <p:cNvGraphicFramePr/>
          <p:nvPr/>
        </p:nvGraphicFramePr>
        <p:xfrm>
          <a:off x="324000" y="2637000"/>
          <a:ext cx="2663640" cy="57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37000"/>
                    <a:ext cx="266364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Rectangle 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6"/>
          <p:cNvGraphicFramePr/>
          <p:nvPr/>
        </p:nvGraphicFramePr>
        <p:xfrm>
          <a:off x="0" y="4653000"/>
          <a:ext cx="345600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653000"/>
                    <a:ext cx="34560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8"/>
          <p:cNvGraphicFramePr/>
          <p:nvPr/>
        </p:nvGraphicFramePr>
        <p:xfrm>
          <a:off x="3708360" y="2060640"/>
          <a:ext cx="5435640" cy="151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08360" y="2060640"/>
                    <a:ext cx="543564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10"/>
          <p:cNvGraphicFramePr/>
          <p:nvPr/>
        </p:nvGraphicFramePr>
        <p:xfrm>
          <a:off x="3887640" y="4005360"/>
          <a:ext cx="5256360" cy="1452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87640" y="4005360"/>
                    <a:ext cx="525636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NOMENCLATURA DE COMPOSTOS DE CADEIA MIS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250920" y="2532240"/>
          <a:ext cx="4537080" cy="33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532240"/>
                    <a:ext cx="453708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6"/>
          <p:cNvGraphicFramePr/>
          <p:nvPr/>
        </p:nvGraphicFramePr>
        <p:xfrm>
          <a:off x="5292720" y="2349360"/>
          <a:ext cx="3529080" cy="352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2720" y="2349360"/>
                    <a:ext cx="3529080" cy="35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NOMENCLATURA DE COMPOSTOS DE CADEIA MIS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4"/>
          <p:cNvGraphicFramePr/>
          <p:nvPr/>
        </p:nvGraphicFramePr>
        <p:xfrm>
          <a:off x="179280" y="1341360"/>
          <a:ext cx="8964720" cy="551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341360"/>
                    <a:ext cx="896472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RADICAIS OU RAMIFICAÇÕ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4"/>
          <p:cNvGraphicFramePr/>
          <p:nvPr/>
        </p:nvGraphicFramePr>
        <p:xfrm>
          <a:off x="1763640" y="765000"/>
          <a:ext cx="532944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765000"/>
                    <a:ext cx="532944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Rectangle 7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6"/>
          <p:cNvGraphicFramePr/>
          <p:nvPr/>
        </p:nvGraphicFramePr>
        <p:xfrm>
          <a:off x="1835280" y="1844640"/>
          <a:ext cx="5472000" cy="12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1844640"/>
                    <a:ext cx="547200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8"/>
          <p:cNvGraphicFramePr/>
          <p:nvPr/>
        </p:nvGraphicFramePr>
        <p:xfrm>
          <a:off x="1763640" y="3213000"/>
          <a:ext cx="5472360" cy="156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63640" y="3213000"/>
                    <a:ext cx="5472360" cy="15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10"/>
          <p:cNvGraphicFramePr/>
          <p:nvPr/>
        </p:nvGraphicFramePr>
        <p:xfrm>
          <a:off x="2700360" y="4724280"/>
          <a:ext cx="3743280" cy="184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00360" y="4724280"/>
                    <a:ext cx="3743280" cy="18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ADICAIS OU RAMIFICA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0" y="1971720"/>
            <a:ext cx="914400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NOMENCLATURA DE COMPOSTOS ALIFÁTICOS RAMIFIC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1º passo: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terminar a cadeia princip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4"/>
          <p:cNvGraphicFramePr/>
          <p:nvPr/>
        </p:nvGraphicFramePr>
        <p:xfrm>
          <a:off x="468360" y="2637000"/>
          <a:ext cx="820728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637000"/>
                    <a:ext cx="820728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NOMENCLATURA DE COMPOSTOS ALIFÁTICOS RAMIFIC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1258920" y="1916280"/>
          <a:ext cx="669780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916280"/>
                    <a:ext cx="669780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NOMENCLATURA DE COMPOSTOS ALIFÁTICOS RAMIFIC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2º passo: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umerar a cadeia princip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4"/>
          <p:cNvGraphicFramePr/>
          <p:nvPr/>
        </p:nvGraphicFramePr>
        <p:xfrm>
          <a:off x="395280" y="2133720"/>
          <a:ext cx="8497800" cy="206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133720"/>
                    <a:ext cx="8497800" cy="20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7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6"/>
          <p:cNvGraphicFramePr/>
          <p:nvPr/>
        </p:nvGraphicFramePr>
        <p:xfrm>
          <a:off x="179280" y="4653000"/>
          <a:ext cx="8964720" cy="177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4653000"/>
                    <a:ext cx="896472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NOMENCLATURA DE COMPOSTOS ALIFÁTICOS RAMIFIC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3º passo: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crever o nome do composto orgânico ramific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0" y="2871720"/>
          <a:ext cx="914400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71720"/>
                    <a:ext cx="91440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Rectangle 7"/>
          <p:cNvSpPr/>
          <p:nvPr/>
        </p:nvSpPr>
        <p:spPr>
          <a:xfrm>
            <a:off x="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6"/>
          <p:cNvGraphicFramePr/>
          <p:nvPr/>
        </p:nvGraphicFramePr>
        <p:xfrm>
          <a:off x="971640" y="4989600"/>
          <a:ext cx="7777080" cy="18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4989600"/>
                    <a:ext cx="7777080" cy="18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NOMENCLATURA DE COMPOSTOS ALIFÁTICOS RAMIFIC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6"/>
          <p:cNvGraphicFramePr/>
          <p:nvPr/>
        </p:nvGraphicFramePr>
        <p:xfrm>
          <a:off x="0" y="2133720"/>
          <a:ext cx="9144000" cy="33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914400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NOMENCLATURA DE COMPOSTOS ALIFÁTICOS RAMIFIC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0" y="2421000"/>
          <a:ext cx="889308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21000"/>
                    <a:ext cx="889308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09:08:08Z</dcterms:created>
  <dc:creator>Cliente</dc:creator>
  <dc:description/>
  <dc:language>en-US</dc:language>
  <cp:lastModifiedBy>Moises</cp:lastModifiedBy>
  <dcterms:modified xsi:type="dcterms:W3CDTF">2011-04-25T03:25:34Z</dcterms:modified>
  <cp:revision>4</cp:revision>
  <dc:subject/>
  <dc:title>HIDROCARBONETOS DE CADEIA RAMIFICADA</dc:title>
</cp:coreProperties>
</file>